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E77-6888-462D-A90C-B6904FD7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7F3-9443-476E-9F6D-39071D75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D81B-AF58-4EC6-9685-8292F555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7045-215E-41F7-97CC-C29EE785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A4B-60E8-4B2B-BFA8-1C868196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39E-CA6E-4F53-872C-C582D22F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443-18FB-4614-87E9-41AD2504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9A6-2CD7-4680-9919-6140BE22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28F-2916-4BE5-9AF9-E564D92D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0B0-169A-4383-BF72-8CB7FE94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B7A-54EF-4504-A3C4-B38D7A1B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9941-5674-4685-88D2-8E3B5573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4D7F-CCA0-4DD5-AEC7-CF8807502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85652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Bonjou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26920" y="4752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jour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9228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 re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139464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87600" y="3656160"/>
            <a:ext cx="260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nne nu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494064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lu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9200" y="5084640"/>
            <a:ext cx="581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ment t’appelles-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3520" y="2781360"/>
            <a:ext cx="425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 bien, mer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23320" y="2781360"/>
            <a:ext cx="20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ons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907920"/>
            <a:ext cx="626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9496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u revoi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18550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onsoi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1855080"/>
            <a:ext cx="792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Bonne nu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92360" y="206064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0440" y="1700280"/>
            <a:ext cx="87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omment ça va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92360" y="206064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19280" y="2276640"/>
            <a:ext cx="18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3640" y="1844640"/>
            <a:ext cx="280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1917720"/>
            <a:ext cx="7921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08440" y="907920"/>
            <a:ext cx="708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Commen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t’appelles-tu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1917720"/>
            <a:ext cx="7921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1268280"/>
            <a:ext cx="913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omic Sans MS"/>
              </a:rPr>
              <a:t>Ça va bien, merc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-1602720"/>
            <a:ext cx="208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onj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25080" y="0"/>
            <a:ext cx="345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Ça va bien, merc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56000" y="-175644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u revo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468000" y="3933720"/>
            <a:ext cx="44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 ça va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757080" y="7173000"/>
            <a:ext cx="43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onne nuit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58400" y="7256520"/>
            <a:ext cx="20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ons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6300720" y="2060640"/>
            <a:ext cx="60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ment t’appelles-t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5869080" y="5084640"/>
            <a:ext cx="563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al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45:05Z</dcterms:created>
  <dc:creator>Helen</dc:creator>
  <dc:description/>
  <dc:language>en-US</dc:language>
  <cp:lastModifiedBy>Helen</cp:lastModifiedBy>
  <dcterms:modified xsi:type="dcterms:W3CDTF">2010-04-23T08:28:04Z</dcterms:modified>
  <cp:revision>13</cp:revision>
  <dc:subject/>
  <dc:title>Slide 1</dc:title>
</cp:coreProperties>
</file>